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BF5-3BF6-493F-9415-C9A1FC69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D16-6833-4DD7-99C9-A5387F16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not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3B5-BE10-4AFA-A544-9FB31712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B56-AD0D-438D-AF51-C6E69475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424-54FA-4116-8E5C-D0980AC6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30D-9872-4FFC-8AEC-0E79EAC9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5D7-8BA4-4CE3-8FC9-868B200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BB7-DFDF-4291-A4DE-0F70C3B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89C-4665-4CCA-8703-65CDB32E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4A2-1A91-4CF8-8194-E83C334A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605-B200-423E-BC1A-E053FCE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7FF-63BC-43AC-A639-A203F0A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ED8-54E5-4725-8A64-E2F433D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981-45BE-49B7-8B67-E13E36E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1569-C2BF-4F9E-A456-7EB45BA9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33.xml"/><Relationship Id="rId9" Type="http://schemas.openxmlformats.org/officeDocument/2006/relationships/slide" Target="slide43.xml"/><Relationship Id="rId10" Type="http://schemas.openxmlformats.org/officeDocument/2006/relationships/slide" Target="slide15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5.xml"/><Relationship Id="rId15" Type="http://schemas.openxmlformats.org/officeDocument/2006/relationships/slide" Target="slide27.xml"/><Relationship Id="rId16" Type="http://schemas.openxmlformats.org/officeDocument/2006/relationships/slide" Target="slide29.xml"/><Relationship Id="rId17" Type="http://schemas.openxmlformats.org/officeDocument/2006/relationships/slide" Target="slide31.xml"/><Relationship Id="rId18" Type="http://schemas.openxmlformats.org/officeDocument/2006/relationships/slide" Target="slide35.xml"/><Relationship Id="rId19" Type="http://schemas.openxmlformats.org/officeDocument/2006/relationships/slide" Target="slide45.xml"/><Relationship Id="rId20" Type="http://schemas.openxmlformats.org/officeDocument/2006/relationships/slide" Target="slide37.xml"/><Relationship Id="rId21" Type="http://schemas.openxmlformats.org/officeDocument/2006/relationships/slide" Target="slide47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eopardy For OM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(by ESL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period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ñora M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362320" y="2209680"/>
            <a:ext cx="419076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09680" y="251460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362320" y="2971800"/>
            <a:ext cx="48006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124080" y="2666880"/>
            <a:ext cx="4267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743200" y="2133720"/>
            <a:ext cx="50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05320" y="2819520"/>
            <a:ext cx="32004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895480" y="2971800"/>
            <a:ext cx="472464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95480" y="3200400"/>
            <a:ext cx="38102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763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63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2"/>
          <p:cNvSpPr/>
          <p:nvPr/>
        </p:nvSpPr>
        <p:spPr>
          <a:xfrm>
            <a:off x="73915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Steinbe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3"/>
          <p:cNvSpPr/>
          <p:nvPr/>
        </p:nvSpPr>
        <p:spPr>
          <a:xfrm>
            <a:off x="548640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u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ls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4"/>
          <p:cNvSpPr/>
          <p:nvPr/>
        </p:nvSpPr>
        <p:spPr>
          <a:xfrm>
            <a:off x="3581280" y="2286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e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5"/>
          <p:cNvSpPr/>
          <p:nvPr/>
        </p:nvSpPr>
        <p:spPr>
          <a:xfrm>
            <a:off x="1981080" y="22860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6"/>
          <p:cNvSpPr/>
          <p:nvPr/>
        </p:nvSpPr>
        <p:spPr>
          <a:xfrm>
            <a:off x="763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7"/>
          <p:cNvSpPr/>
          <p:nvPr/>
        </p:nvSpPr>
        <p:spPr>
          <a:xfrm>
            <a:off x="763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8"/>
          <p:cNvSpPr/>
          <p:nvPr/>
        </p:nvSpPr>
        <p:spPr>
          <a:xfrm>
            <a:off x="763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9"/>
          <p:cNvSpPr/>
          <p:nvPr/>
        </p:nvSpPr>
        <p:spPr>
          <a:xfrm>
            <a:off x="763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0"/>
          <p:cNvSpPr/>
          <p:nvPr/>
        </p:nvSpPr>
        <p:spPr>
          <a:xfrm>
            <a:off x="1905120" y="1447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365760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2"/>
          <p:cNvSpPr/>
          <p:nvPr/>
        </p:nvSpPr>
        <p:spPr>
          <a:xfrm>
            <a:off x="55627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8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3"/>
          <p:cNvSpPr/>
          <p:nvPr/>
        </p:nvSpPr>
        <p:spPr>
          <a:xfrm>
            <a:off x="746748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9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4"/>
          <p:cNvSpPr/>
          <p:nvPr/>
        </p:nvSpPr>
        <p:spPr>
          <a:xfrm>
            <a:off x="1905120" y="24382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5"/>
          <p:cNvSpPr/>
          <p:nvPr/>
        </p:nvSpPr>
        <p:spPr>
          <a:xfrm>
            <a:off x="190512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6"/>
          <p:cNvSpPr/>
          <p:nvPr/>
        </p:nvSpPr>
        <p:spPr>
          <a:xfrm>
            <a:off x="1905120" y="4648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7"/>
          <p:cNvSpPr/>
          <p:nvPr/>
        </p:nvSpPr>
        <p:spPr>
          <a:xfrm>
            <a:off x="1905120" y="5715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365760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9"/>
          <p:cNvSpPr/>
          <p:nvPr/>
        </p:nvSpPr>
        <p:spPr>
          <a:xfrm>
            <a:off x="365760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365760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1"/>
          <p:cNvSpPr/>
          <p:nvPr/>
        </p:nvSpPr>
        <p:spPr>
          <a:xfrm>
            <a:off x="365760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2"/>
          <p:cNvSpPr/>
          <p:nvPr/>
        </p:nvSpPr>
        <p:spPr>
          <a:xfrm>
            <a:off x="55627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3"/>
          <p:cNvSpPr/>
          <p:nvPr/>
        </p:nvSpPr>
        <p:spPr>
          <a:xfrm>
            <a:off x="746748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55627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5"/>
          <p:cNvSpPr/>
          <p:nvPr/>
        </p:nvSpPr>
        <p:spPr>
          <a:xfrm>
            <a:off x="746748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6"/>
          <p:cNvSpPr/>
          <p:nvPr/>
        </p:nvSpPr>
        <p:spPr>
          <a:xfrm>
            <a:off x="55627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7"/>
          <p:cNvSpPr/>
          <p:nvPr/>
        </p:nvSpPr>
        <p:spPr>
          <a:xfrm>
            <a:off x="746748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8"/>
          <p:cNvSpPr/>
          <p:nvPr/>
        </p:nvSpPr>
        <p:spPr>
          <a:xfrm>
            <a:off x="55627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9"/>
          <p:cNvSpPr/>
          <p:nvPr/>
        </p:nvSpPr>
        <p:spPr>
          <a:xfrm>
            <a:off x="746748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2133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895480" y="2590920"/>
            <a:ext cx="4114800" cy="19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971800" y="2666880"/>
            <a:ext cx="320040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124080" y="3429000"/>
            <a:ext cx="35053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8120" y="3048120"/>
            <a:ext cx="41907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76720" y="2895480"/>
            <a:ext cx="39621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895480" y="3124080"/>
            <a:ext cx="403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24080" y="2438280"/>
            <a:ext cx="297180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971800" y="2895480"/>
            <a:ext cx="29718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048120" y="3124080"/>
            <a:ext cx="358128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200400" y="2590920"/>
            <a:ext cx="312408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429000" y="2971800"/>
            <a:ext cx="380988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438280" y="2819520"/>
            <a:ext cx="449604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819520" y="3124080"/>
            <a:ext cx="4267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124080" y="2514600"/>
            <a:ext cx="42674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971800" y="2438280"/>
            <a:ext cx="40384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48120" y="2057400"/>
            <a:ext cx="304776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8120" y="2743200"/>
            <a:ext cx="38862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209680" y="28195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429000" y="2514600"/>
            <a:ext cx="373392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895480" y="2666880"/>
            <a:ext cx="29718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438280" y="3048120"/>
            <a:ext cx="48006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352680" y="3200400"/>
            <a:ext cx="3353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14600" y="3048120"/>
            <a:ext cx="472428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133720" y="2743200"/>
            <a:ext cx="5105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6:15:24Z</dcterms:created>
  <dc:creator>anyone</dc:creator>
  <dc:description/>
  <dc:language>en-US</dc:language>
  <cp:lastModifiedBy>Rosie</cp:lastModifiedBy>
  <dcterms:modified xsi:type="dcterms:W3CDTF">2009-06-30T02:34:35Z</dcterms:modified>
  <cp:revision>33</cp:revision>
  <dc:subject/>
  <dc:title>Welcome to Jeopardy!</dc:title>
</cp:coreProperties>
</file>